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99452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E30-C1A3-4DFF-8FB1-4B78353C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8915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4043520"/>
            <a:ext cx="8915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5F2-6185-4A43-9A90-544B00E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04352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04352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A45-8952-4BF8-A2DC-3C2B9164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3188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3188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404352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04352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043520"/>
            <a:ext cx="28706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68E-5DDB-4670-A029-802053D4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31880"/>
            <a:ext cx="8915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416-813D-46F8-B4B8-57E725F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8915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C2D-AAA6-4DCA-8BA4-99FD6B8F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4350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31880"/>
            <a:ext cx="4350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107-323F-4D35-A414-2377D1C9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ECD-B566-43FD-AB21-16B7F15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81160"/>
            <a:ext cx="8915400" cy="54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B21-8590-4D17-AC96-A1C6F5FB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31880"/>
            <a:ext cx="4350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404352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A1D-87E3-4588-84F7-0BF1469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4350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04352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4B9-2AB9-4BC0-8130-F5C2216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31880"/>
            <a:ext cx="4350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3520"/>
            <a:ext cx="8915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DC2-FC74-4504-B151-A08D252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81160"/>
            <a:ext cx="8915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31880"/>
            <a:ext cx="8915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70200"/>
            <a:ext cx="2311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70200"/>
            <a:ext cx="31366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70200"/>
            <a:ext cx="2311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64C-93A0-4CC4-A20D-F94C91B6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920" y="1370160"/>
            <a:ext cx="446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03560" y="232236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eier Zugang zu wissenschaftlichen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36760" y="3132000"/>
            <a:ext cx="3372120" cy="25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714440" y="5996160"/>
            <a:ext cx="18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on Jan-Niklas Schä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7760" y="4608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000" y="1370160"/>
            <a:ext cx="889308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ldener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n-Access-Zeitschri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er-Review / Open-Peer-Commen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.Z. 4344 Zeitschriften (Directory of Open Access Journals [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schiedene Finanzierungsmo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rengebüh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örderorganis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itutionelle Mitglied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760" y="4608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1000" y="13701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üner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vierung in institutionellen / disziplinären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sitoryinfrastruktur mit std. Schnitt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prints – unproblem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rints – teilweise problem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7760" y="4608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000" y="1370160"/>
            <a:ext cx="88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rt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besserung der Informationsversor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sweg aus der Zeitschriftenk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örderung der Forschungseffizi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höhung der Sichtbarkeit / Zitierhäuf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ier Zugang zu öff. finanzierten Forschungsergebn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7760" y="4608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000" y="1370160"/>
            <a:ext cx="88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cht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ätsvorbeh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liche Vorbeh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entieller Ansehensverl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z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itaufwand für Wissenschaftler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7840" y="4608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derungen der Piratenpar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000" y="13701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halte des PP-Wahlporgramms 2009 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zielle Förderung einer Repository-Infra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7840" y="4608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derungen der Piratenpar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000" y="13701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halte des PP-Wahlporgramms 2009 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zielle Förderung einer Repository-Infra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öff. zugängliche Publikation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schungsg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7840" y="4608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derungen der Piratenpar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1000" y="1370160"/>
            <a:ext cx="88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halte des PP-Wahlporgramms 2009 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zielle Förderung einer Repository-Infrastru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öff. zugängliche Publikation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schungsg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öff. finanzierte Softwar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pe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640" y="46080"/>
            <a:ext cx="14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6560" y="1147680"/>
            <a:ext cx="8148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1] Das wissenschaftliche Publizieren – Stand und Perspekt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eter Schirmb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edoc.hu-berlin.de/cmsj/32/schirmbacher-peter-7/PDF/schirmbacher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2] Open Access - Wikip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de.wikipedia.org/wiki/Open_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3] Neue Institutionen im System des wissenschaftlichen Publizierens – Zwischenbefu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sozialwissenschaftlichen Teilprojektes in der Säule Wissenschaftskommunik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sofi-goettingen.de/index.php?id=7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4] Open Access Informationplat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open-access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5] Directory of Open Access Jour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doaj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6] Wahlprogramm der 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piratenpartei.de/tmp/Wahlprogramm_Bundestagswahl2009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[7] - Publikationsstrategien im Wand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dfg.de/dfg_im_profil/zahlen_und_fakten/statistisches_berichtswese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_access/download/oa_ber_dt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65280" y="562608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nke für die Aufmerksamke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84280" y="4673520"/>
            <a:ext cx="887400" cy="1077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612880" y="3938760"/>
            <a:ext cx="743040" cy="1077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654520" y="2470320"/>
            <a:ext cx="7225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0" y="46080"/>
            <a:ext cx="11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1000" y="1370160"/>
            <a:ext cx="889308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und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ktionen des wiss. Publizier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forderungen an das Publikation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sgangs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derungen der Piratenpar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960" y="46080"/>
            <a:ext cx="19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9360" y="2762280"/>
            <a:ext cx="7925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k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 Ergebnis wissenschaftlicher Arbeit, welches der Öffentlichkeit 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ügung gestellt w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zi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r Gesamtprozess, in dem aus einem Ergebnis eine Publikation erstel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stellen einer geeigneten Präsentationsform (i.d.R.: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ätssicherungsproz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ügungstellen auf einer geeigneten Plat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428760" y="1441440"/>
            <a:ext cx="9126000" cy="1028520"/>
            <a:chOff x="428760" y="1441440"/>
            <a:chExt cx="9126000" cy="1028520"/>
          </a:xfrm>
        </p:grpSpPr>
        <p:sp>
          <p:nvSpPr>
            <p:cNvPr id="71" name=""/>
            <p:cNvSpPr/>
            <p:nvPr/>
          </p:nvSpPr>
          <p:spPr>
            <a:xfrm>
              <a:off x="428760" y="1441440"/>
              <a:ext cx="9126000" cy="1028520"/>
            </a:xfrm>
            <a:prstGeom prst="rect">
              <a:avLst/>
            </a:prstGeom>
            <a:solidFill>
              <a:srgbClr val="c0c0c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1720" y="1447920"/>
              <a:ext cx="79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issenschaft ist die Erweiterung des Wissens durch […] die methodische Suche nach neu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rkenntnissen sowie deren systematische Dokumentation und Veröffentlichung in Form v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issenschaftlichen Arbeiten.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2880" y="2175480"/>
              <a:ext cx="271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http://de.wikipedia.org/wiki/Wissenscha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880" y="4608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ktion des Publizie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1000" y="1363680"/>
            <a:ext cx="955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fizienter (wiss.) Fortsch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schungsergebnisse / Erkenntnisse werden offen zugänglich ge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nelle Verbrei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öglichkeiten der Bezugnahme / Aufbau auf “fremden” W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ttbew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ovation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ech. und Ges. Fortsch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4880" y="4608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ktion des Publizie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1000" y="1363680"/>
            <a:ext cx="955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reize für Wissenschaf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pruch an Urheberrecht für wiss. Ergebnissen und Entdec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erkennung in der wiss. Geme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istungsnachweis für die Beantragung von Forschungsgel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6640" y="46080"/>
            <a:ext cx="666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forderungen an das Publikations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4280" y="1363680"/>
            <a:ext cx="430560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forder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ugän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ügbarkeit / Ident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ätssicher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aubwürdigkeit / Verantwort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920" y="4608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9080" y="1293840"/>
            <a:ext cx="858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 derzeitige Puplikationssystem basiert auf einer historisch gewachse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lechtung öffentlich finanzierter Wissenschaft und kommerziellen Ver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ssenschafliche Normen und Reg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wertung auf marktwirtschaftlichen Prinzip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11240" y="3132000"/>
            <a:ext cx="6007320" cy="298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518680" y="599616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bbildung aus [3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920" y="4608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22640" y="2028960"/>
            <a:ext cx="4994280" cy="2838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3440" y="129384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mmodifizierung des Wissens durch Verlage und Dekommodifizie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ch Bibliothe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520" y="4894200"/>
            <a:ext cx="694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bliotheken müssen einerseits auf dem Markt “einkaufen”, haben aber auch 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ftag die Ware möglichst vollständig öffentlich verfügbar zu ma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kende fin. Mittel der Bibliotheken; steigende Anzahl an Veröffentlich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itschriftenk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18680" y="599616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bbildung aus [3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906120" cy="92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35720"/>
            <a:ext cx="990612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41000" y="646740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8.09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760" y="4608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 Access als Publikations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000" y="1370160"/>
            <a:ext cx="88930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stenfreier Zugriff auf Publikationen (offene Liz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zige Einschränkung: Urheber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öffentlichung in digitaler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25560"/>
            <a:ext cx="9906120" cy="14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-360" y="6289560"/>
            <a:ext cx="9906120" cy="147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931240" y="119160"/>
            <a:ext cx="820800" cy="76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4600" y="6467400"/>
            <a:ext cx="25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iratenpar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mmtisch Recklingha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811840" y="2687760"/>
            <a:ext cx="3095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20:54Z</dcterms:created>
  <dc:creator>Xcryon</dc:creator>
  <dc:description/>
  <dc:language>en-US</dc:language>
  <cp:lastModifiedBy>Xcryon</cp:lastModifiedBy>
  <dcterms:modified xsi:type="dcterms:W3CDTF">2009-09-08T06:22:39Z</dcterms:modified>
  <cp:revision>47</cp:revision>
  <dc:subject/>
  <dc:title>Folie 1</dc:title>
</cp:coreProperties>
</file>