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CB0A-B0BB-4681-AEAF-9A02DFAE4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7880"/>
            <a:ext cx="86360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4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1760"/>
            <a:ext cx="863604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90000"/>
            <a:ext cx="863604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179C-3F7D-4DD8-8E7C-A9398AEB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7880"/>
            <a:ext cx="86360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4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1760"/>
            <a:ext cx="421416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1760"/>
            <a:ext cx="421416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90000"/>
            <a:ext cx="421416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90000"/>
            <a:ext cx="421416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43A3-615C-48A6-9C9B-FEE091F24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7880"/>
            <a:ext cx="86360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4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1760"/>
            <a:ext cx="278064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1760"/>
            <a:ext cx="278064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1760"/>
            <a:ext cx="278064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90000"/>
            <a:ext cx="278064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90000"/>
            <a:ext cx="278064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90000"/>
            <a:ext cx="278064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9EBC-03D9-4964-882B-67096182A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DADA-5991-4E52-A0D1-AC0268612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677880"/>
            <a:ext cx="86360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4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1760" y="2201760"/>
            <a:ext cx="86360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B931-3791-4A98-8989-5C45F906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677880"/>
            <a:ext cx="86360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4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2201760"/>
            <a:ext cx="863604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1869-AD79-44ED-B8E8-D2F1F09B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677880"/>
            <a:ext cx="86360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4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2201760"/>
            <a:ext cx="421416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86880" y="2201760"/>
            <a:ext cx="421416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35BB-F475-4AB7-BAEF-71651A51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677880"/>
            <a:ext cx="86360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4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89EA-6FFA-4912-AA2D-00EEFB04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677880"/>
            <a:ext cx="86360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6D8F-047D-4C79-BFD3-87A6DD5F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677880"/>
            <a:ext cx="86360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4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2201760"/>
            <a:ext cx="421416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86880" y="2201760"/>
            <a:ext cx="421416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1760" y="4590000"/>
            <a:ext cx="421416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8944-7FD3-484F-B114-8F96BACC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7880"/>
            <a:ext cx="86360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4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1760"/>
            <a:ext cx="86360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E1DC-7AEE-4010-8DDC-DC57D949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677880"/>
            <a:ext cx="86360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4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2201760"/>
            <a:ext cx="421416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86880" y="2201760"/>
            <a:ext cx="421416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86880" y="4590000"/>
            <a:ext cx="421416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92A0-9852-46B2-914A-769C9DE6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677880"/>
            <a:ext cx="86360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4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2201760"/>
            <a:ext cx="421416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86880" y="2201760"/>
            <a:ext cx="421416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1760" y="4590000"/>
            <a:ext cx="863604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D780-B586-4F77-8B34-46D0109C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677880"/>
            <a:ext cx="86360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4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2201760"/>
            <a:ext cx="863604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1760" y="4590000"/>
            <a:ext cx="863604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0F04-48F5-44F9-B913-4676F730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677880"/>
            <a:ext cx="86360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4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1760" y="2201760"/>
            <a:ext cx="421416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86880" y="2201760"/>
            <a:ext cx="421416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1760" y="4590000"/>
            <a:ext cx="421416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86880" y="4590000"/>
            <a:ext cx="421416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E0B4-E815-4BAB-BCEB-BC249F5C0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677880"/>
            <a:ext cx="86360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4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2201760"/>
            <a:ext cx="278064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81720" y="2201760"/>
            <a:ext cx="278064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02040" y="2201760"/>
            <a:ext cx="278064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1760" y="4590000"/>
            <a:ext cx="278064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81720" y="4590000"/>
            <a:ext cx="278064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02040" y="4590000"/>
            <a:ext cx="278064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D1A0-D637-4813-B074-4BA28A55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7880"/>
            <a:ext cx="86360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4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1760"/>
            <a:ext cx="863604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A775-65E5-45FC-B156-2E3FA25A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7880"/>
            <a:ext cx="86360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4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1760"/>
            <a:ext cx="421416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1760"/>
            <a:ext cx="421416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4ECC-D113-48E6-8201-42D13695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7880"/>
            <a:ext cx="86360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4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B63B-834B-4D2B-842F-DC8CCA83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7880"/>
            <a:ext cx="86360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6396-9CA9-4D8C-A567-8784C6CB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7880"/>
            <a:ext cx="86360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4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1760"/>
            <a:ext cx="421416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1760"/>
            <a:ext cx="421416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90000"/>
            <a:ext cx="421416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A20C-18B8-4FD3-BACB-066EAD6C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7880"/>
            <a:ext cx="86360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4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1760"/>
            <a:ext cx="421416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1760"/>
            <a:ext cx="421416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90000"/>
            <a:ext cx="421416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1E8B-2BBC-432B-A49B-491A0E62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7880"/>
            <a:ext cx="86360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4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1760"/>
            <a:ext cx="421416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1760"/>
            <a:ext cx="421416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90000"/>
            <a:ext cx="863604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7ECD-4C07-444E-B3CA-54EC0252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7880"/>
            <a:ext cx="86360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e Mono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1760"/>
            <a:ext cx="863604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8000"/>
          </a:bodyPr>
          <a:p>
            <a:pPr marL="335160" indent="-335160">
              <a:spcBef>
                <a:spcPts val="901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  <a:p>
            <a:pPr lvl="1" marL="726120" indent="-279360">
              <a:spcBef>
                <a:spcPts val="901"/>
              </a:spcBef>
              <a:buClr>
                <a:srgbClr val="000000"/>
              </a:buClr>
              <a:buFont typeface="Andale Mono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  <a:p>
            <a:pPr lvl="2" marL="1117440" indent="-223560">
              <a:spcBef>
                <a:spcPts val="901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  <a:p>
            <a:pPr lvl="3" marL="1564560" indent="-223560">
              <a:spcBef>
                <a:spcPts val="901"/>
              </a:spcBef>
              <a:buClr>
                <a:srgbClr val="000000"/>
              </a:buClr>
              <a:buFont typeface="Andale Mono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  <a:p>
            <a:pPr lvl="4" marL="2011680" indent="-223560">
              <a:spcBef>
                <a:spcPts val="901"/>
              </a:spcBef>
              <a:buClr>
                <a:srgbClr val="000000"/>
              </a:buClr>
              <a:buFont typeface="Andale Mono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  <a:p>
            <a:pPr lvl="5" marL="2011680" indent="-223560">
              <a:spcBef>
                <a:spcPts val="901"/>
              </a:spcBef>
              <a:buClr>
                <a:srgbClr val="000000"/>
              </a:buClr>
              <a:buFont typeface="Andale Mono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  <a:p>
            <a:pPr lvl="6" marL="2011680" indent="-223560">
              <a:spcBef>
                <a:spcPts val="901"/>
              </a:spcBef>
              <a:buClr>
                <a:srgbClr val="000000"/>
              </a:buClr>
              <a:buFont typeface="Andale Mono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608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600" spc="-1" strike="noStrike">
                <a:solidFill>
                  <a:srgbClr val="000000"/>
                </a:solidFill>
                <a:latin typeface="Andale Mono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dale Mono"/>
                <a:ea typeface="Osaka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1840" y="6941880"/>
            <a:ext cx="3216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6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81360" y="6941880"/>
            <a:ext cx="21164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600" spc="-1" strike="noStrike">
                <a:solidFill>
                  <a:srgbClr val="000000"/>
                </a:solidFill>
                <a:latin typeface="Andale Mono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8C28CA33-A57A-4261-99D8-4F6FCE449EDE}" type="slidenum">
              <a:rPr b="0" lang="en-US" sz="1600" spc="-1" strike="noStrike">
                <a:solidFill>
                  <a:srgbClr val="000000"/>
                </a:solidFill>
                <a:latin typeface="Andale Mono"/>
                <a:ea typeface="Osak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2539800"/>
            <a:ext cx="86360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e Mono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62120" y="6941880"/>
            <a:ext cx="211608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6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471840" y="6941880"/>
            <a:ext cx="3216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6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81360" y="6941880"/>
            <a:ext cx="21164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6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53D08F3A-D261-4DDE-9151-114DCD0209BE}" type="slidenum">
              <a:rPr b="0" lang="en-US" sz="16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  <a:p>
            <a:pPr lvl="1" marL="507960" indent="0" algn="ctr">
              <a:spcBef>
                <a:spcPts val="77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ndale Mono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ndale Mono"/>
            </a:endParaRPr>
          </a:p>
          <a:p>
            <a:pPr lvl="2" marL="1015920" algn="ctr">
              <a:spcBef>
                <a:spcPts val="675"/>
              </a:spcBef>
              <a:buClr>
                <a:srgbClr val="000000"/>
              </a:buClr>
              <a:buFont typeface="Andale Mono"/>
              <a:buChar char="•"/>
              <a:tabLst>
                <a:tab algn="l" pos="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ale Mono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ndale Mono"/>
            </a:endParaRPr>
          </a:p>
          <a:p>
            <a:pPr lvl="3" marL="1523880" algn="ctr">
              <a:spcBef>
                <a:spcPts val="550"/>
              </a:spcBef>
              <a:buClr>
                <a:srgbClr val="000000"/>
              </a:buClr>
              <a:buFont typeface="Andale Mono"/>
              <a:buChar char="–"/>
              <a:tabLst>
                <a:tab algn="l" pos="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ndale Mono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ndale Mono"/>
            </a:endParaRPr>
          </a:p>
          <a:p>
            <a:pPr lvl="4" marL="2031840" algn="ctr">
              <a:spcBef>
                <a:spcPts val="550"/>
              </a:spcBef>
              <a:buClr>
                <a:srgbClr val="000000"/>
              </a:buClr>
              <a:buFont typeface="Andale Mono"/>
              <a:buChar char="»"/>
              <a:tabLst>
                <a:tab algn="l" pos="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ndale Mono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ndale Mono"/>
            </a:endParaRPr>
          </a:p>
          <a:p>
            <a:pPr lvl="5" marL="2031840">
              <a:spcBef>
                <a:spcPts val="550"/>
              </a:spcBef>
              <a:buClr>
                <a:srgbClr val="000000"/>
              </a:buClr>
              <a:buFont typeface="Andale Mo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ndale Mono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ndale Mono"/>
            </a:endParaRPr>
          </a:p>
          <a:p>
            <a:pPr lvl="6" marL="2031840">
              <a:spcBef>
                <a:spcPts val="550"/>
              </a:spcBef>
              <a:buClr>
                <a:srgbClr val="000000"/>
              </a:buClr>
              <a:buFont typeface="Andale Mo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ndale Mono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ndale Mo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52120" y="3050640"/>
            <a:ext cx="8443800" cy="14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emokratische Parteiarbeit mit LiquidFeedback</a:t>
            </a:r>
            <a:endParaRPr b="1" lang="en-US" sz="48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76240" y="4546440"/>
            <a:ext cx="664560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84" name=""/>
          <p:cNvSpPr/>
          <p:nvPr/>
        </p:nvSpPr>
        <p:spPr>
          <a:xfrm>
            <a:off x="2757960" y="5222880"/>
            <a:ext cx="493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Simon Weiß (@pfadinteg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Martin Delius (@beapir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677880"/>
            <a:ext cx="86360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e Mono"/>
              </a:rPr>
              <a:t>Antragsentwicklung in Gruppen</a:t>
            </a:r>
            <a:endParaRPr b="1" lang="en-US" sz="44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2201760"/>
            <a:ext cx="863604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</a:rPr>
              <a:t>AGs bilden Untergruppen von Personen nach thematischer Trennung</a:t>
            </a: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</a:rPr>
              <a:t>Entwicklung und Diskussion innerhalb der Gruppen</a:t>
            </a: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</a:rPr>
              <a:t>Ergebnis wird “der Partei” zur Abstimmung gestellt oder durch Vorstand bewilligt</a:t>
            </a: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677880"/>
            <a:ext cx="86360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e Mono"/>
              </a:rPr>
              <a:t>Antragsentwicklung von Einzelpersonen</a:t>
            </a:r>
            <a:endParaRPr b="1" lang="en-US" sz="44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1760" y="2201760"/>
            <a:ext cx="863604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</a:rPr>
              <a:t>Vernetzung mit verschiedenen Personen zu unterschiedlichen Themen</a:t>
            </a: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</a:rPr>
              <a:t>Ständiges Feedback im Antragsprozess </a:t>
            </a: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</a:rPr>
              <a:t>ständige Parteiöffentlichkeit und thematische Vermittlung</a:t>
            </a: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9120" y="306360"/>
            <a:ext cx="96616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300"/>
            </a:b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43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000000"/>
                </a:solidFill>
                <a:latin typeface="Andale Mono"/>
              </a:rPr>
              <a:t>Alle Strukturen haben eigene Vor- und Nachteile.</a:t>
            </a: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ndale Mono"/>
              </a:rPr>
              <a:t>LiquidFeedback ersetzt sie nicht, aber es kann ihnen sinnvolle Unterstützung geben.</a:t>
            </a: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4440" y="301680"/>
            <a:ext cx="96710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ndale Mono"/>
              </a:rPr>
              <a:t>Unterstützung der Arbeit durch LiquidFeedback</a:t>
            </a:r>
            <a:endParaRPr b="1" lang="en-US" sz="43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360" y="1676520"/>
            <a:ext cx="91821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e Mono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ndale Mono"/>
              </a:rPr>
              <a:t>Alle Ideen unterschiedlicher Herkunft werden gegenübergestellt</a:t>
            </a:r>
            <a:endParaRPr b="0" lang="en-US" sz="3000" spc="-1" strike="noStrike">
              <a:solidFill>
                <a:srgbClr val="000000"/>
              </a:solidFill>
              <a:latin typeface="Andale Mono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e Mono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ndale Mono"/>
              </a:rPr>
              <a:t>Bei niedrigen Hürden kann jeder gleichberechtigt Vorschläge einbringen</a:t>
            </a:r>
            <a:endParaRPr b="0" lang="en-US" sz="3000" spc="-1" strike="noStrike">
              <a:solidFill>
                <a:srgbClr val="000000"/>
              </a:solidFill>
              <a:latin typeface="Andale Mono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e Mono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ndale Mono"/>
              </a:rPr>
              <a:t>Initiatoren können sich quantifiziertes Feedback aus der gesamten Partei holen</a:t>
            </a:r>
            <a:endParaRPr b="0" lang="en-US" sz="3000" spc="-1" strike="noStrike">
              <a:solidFill>
                <a:srgbClr val="000000"/>
              </a:solidFill>
              <a:latin typeface="Andale Mo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ndale Mono"/>
              </a:rPr>
              <a:t>Entscheidungen durch Vertreter</a:t>
            </a:r>
            <a:endParaRPr b="1" lang="en-US" sz="43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e Mono"/>
              </a:rPr>
              <a:t>Vorteile:</a:t>
            </a: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ndale Mono"/>
              </a:rPr>
              <a:t>Kontinuierliche Entscheidungsfindung</a:t>
            </a:r>
            <a:endParaRPr b="0" lang="en-US" sz="3000" spc="-1" strike="noStrike">
              <a:solidFill>
                <a:srgbClr val="000000"/>
              </a:solidFill>
              <a:latin typeface="Andale Mono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ndale Mono"/>
              </a:rPr>
              <a:t>Planbarkeit von Handlungen </a:t>
            </a:r>
            <a:endParaRPr b="0" lang="en-US" sz="3000" spc="-1" strike="noStrike">
              <a:solidFill>
                <a:srgbClr val="000000"/>
              </a:solidFill>
              <a:latin typeface="Andale Mono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ndale Mono"/>
              </a:rPr>
              <a:t>Schnelle Reaktion auf Ereignisse</a:t>
            </a:r>
            <a:endParaRPr b="0" lang="en-US" sz="3000" spc="-1" strike="noStrike">
              <a:solidFill>
                <a:srgbClr val="000000"/>
              </a:solidFill>
              <a:latin typeface="Andale Mono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ndale Mono"/>
              </a:rPr>
              <a:t>Ausführliche Beratung von Entscheidungen</a:t>
            </a:r>
            <a:endParaRPr b="0" lang="en-US" sz="3000" spc="-1" strike="noStrike">
              <a:solidFill>
                <a:srgbClr val="000000"/>
              </a:solidFill>
              <a:latin typeface="Andale Mo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ndale Mono"/>
              </a:rPr>
              <a:t>Entscheidungen durch Vertreter</a:t>
            </a:r>
            <a:endParaRPr b="1" lang="en-US" sz="43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e Mono"/>
              </a:rPr>
              <a:t>Vorteile:</a:t>
            </a: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ndale Mono"/>
              </a:rPr>
              <a:t>Kontinuierliche Entscheidungsfindung</a:t>
            </a:r>
            <a:endParaRPr b="0" lang="en-US" sz="3000" spc="-1" strike="noStrike">
              <a:solidFill>
                <a:srgbClr val="000000"/>
              </a:solidFill>
              <a:latin typeface="Andale Mono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ndale Mono"/>
              </a:rPr>
              <a:t>Planbarkeit von Handlungen </a:t>
            </a:r>
            <a:endParaRPr b="0" lang="en-US" sz="3000" spc="-1" strike="noStrike">
              <a:solidFill>
                <a:srgbClr val="000000"/>
              </a:solidFill>
              <a:latin typeface="Andale Mono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ndale Mono"/>
              </a:rPr>
              <a:t>Schnelle Reaktion auf Ereignisse</a:t>
            </a:r>
            <a:endParaRPr b="0" lang="en-US" sz="3000" spc="-1" strike="noStrike">
              <a:solidFill>
                <a:srgbClr val="000000"/>
              </a:solidFill>
              <a:latin typeface="Andale Mono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ndale Mono"/>
              </a:rPr>
              <a:t>Ausführliche Beratung von Entscheidungen</a:t>
            </a:r>
            <a:endParaRPr b="0" lang="en-US" sz="3000" spc="-1" strike="noStrike">
              <a:solidFill>
                <a:srgbClr val="000000"/>
              </a:solidFill>
              <a:latin typeface="Andale Mono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e Mono"/>
              </a:rPr>
              <a:t>Nachteile:</a:t>
            </a: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ndale Mono"/>
              </a:rPr>
              <a:t>Keine direkte demokratische Legitimation für Entscheidungen</a:t>
            </a:r>
            <a:endParaRPr b="0" lang="en-US" sz="3000" spc="-1" strike="noStrike">
              <a:solidFill>
                <a:srgbClr val="000000"/>
              </a:solidFill>
              <a:latin typeface="Andale Mono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ndale Mono"/>
              </a:rPr>
              <a:t>Gefahr der "Entfremdung" von der Parteibasis</a:t>
            </a:r>
            <a:endParaRPr b="0" lang="en-US" sz="3000" spc="-1" strike="noStrike">
              <a:solidFill>
                <a:srgbClr val="000000"/>
              </a:solidFill>
              <a:latin typeface="Andale Mono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000" spc="-1" strike="noStrike">
              <a:solidFill>
                <a:srgbClr val="000000"/>
              </a:solidFill>
              <a:latin typeface="Andale Mo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ndale Mono"/>
              </a:rPr>
              <a:t>LiquidFeedback für Vertreter</a:t>
            </a:r>
            <a:endParaRPr b="1" lang="en-US" sz="43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e Mono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ndale Mono"/>
              </a:rPr>
              <a:t>Abfrage eines Feedbacks von der Basis für geplante Entscheidungen</a:t>
            </a:r>
            <a:endParaRPr b="0" lang="en-US" sz="3000" spc="-1" strike="noStrike">
              <a:solidFill>
                <a:srgbClr val="000000"/>
              </a:solidFill>
              <a:latin typeface="Andale Mono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e Mono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ndale Mono"/>
              </a:rPr>
              <a:t>Beschlüsse aus LiquidFeedback als Hilfe bei der Befindung über Anträge </a:t>
            </a:r>
            <a:endParaRPr b="0" lang="en-US" sz="3000" spc="-1" strike="noStrike">
              <a:solidFill>
                <a:srgbClr val="000000"/>
              </a:solidFill>
              <a:latin typeface="Andale Mo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4440" y="301680"/>
            <a:ext cx="96710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ndale Mono"/>
              </a:rPr>
              <a:t> </a:t>
            </a:r>
            <a:r>
              <a:rPr b="1" lang="en-US" sz="2700" spc="-1" strike="noStrike">
                <a:solidFill>
                  <a:srgbClr val="000000"/>
                </a:solidFill>
                <a:latin typeface="Andale Mono"/>
              </a:rPr>
              <a:t>Vertreterorgane wie der Vorstand sollten sich einig werden, wie sie LiquidFeedback benutzen wollen!</a:t>
            </a:r>
            <a:endParaRPr b="1" lang="en-US" sz="27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1200" y="1828800"/>
            <a:ext cx="9677520" cy="54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ndale Mono"/>
              </a:rPr>
              <a:t> </a:t>
            </a:r>
            <a:r>
              <a:rPr b="0" lang="en-US" sz="3000" spc="-1" strike="noStrike">
                <a:solidFill>
                  <a:srgbClr val="000000"/>
                </a:solidFill>
                <a:latin typeface="Andale Mono"/>
              </a:rPr>
              <a:t>Was bedarf einer basisdemokratischen Legitimation?</a:t>
            </a:r>
            <a:endParaRPr b="0" lang="en-US" sz="3000" spc="-1" strike="noStrike">
              <a:solidFill>
                <a:srgbClr val="000000"/>
              </a:solidFill>
              <a:latin typeface="Andale Mono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e Mono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e Mono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ndale Mono"/>
              </a:rPr>
              <a:t> </a:t>
            </a:r>
            <a:r>
              <a:rPr b="0" lang="en-US" sz="3000" spc="-1" strike="noStrike">
                <a:solidFill>
                  <a:srgbClr val="000000"/>
                </a:solidFill>
                <a:latin typeface="Andale Mono"/>
              </a:rPr>
              <a:t>Wann werden Anträge und Vorhaben an LF "verwiesen"?</a:t>
            </a:r>
            <a:endParaRPr b="0" lang="en-US" sz="3000" spc="-1" strike="noStrike">
              <a:solidFill>
                <a:srgbClr val="000000"/>
              </a:solidFill>
              <a:latin typeface="Andale Mono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e Mono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e Mono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ndale Mono"/>
              </a:rPr>
              <a:t> </a:t>
            </a:r>
            <a:r>
              <a:rPr b="0" lang="en-US" sz="3000" spc="-1" strike="noStrike">
                <a:solidFill>
                  <a:srgbClr val="000000"/>
                </a:solidFill>
                <a:latin typeface="Andale Mono"/>
              </a:rPr>
              <a:t>Welche Gründe rechtfertigen abweichende Beschlüsse?</a:t>
            </a:r>
            <a:endParaRPr b="0" lang="en-US" sz="3000" spc="-1" strike="noStrike">
              <a:solidFill>
                <a:srgbClr val="000000"/>
              </a:solidFill>
              <a:latin typeface="Andale Mo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1200" y="298440"/>
            <a:ext cx="9677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ndale Mono"/>
              </a:rPr>
              <a:t>Entscheidungen durch Mitgliederversammlungen</a:t>
            </a:r>
            <a:endParaRPr b="1" lang="en-US" sz="43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7680" y="1828440"/>
            <a:ext cx="9671040" cy="55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e Mono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e Mono"/>
              </a:rPr>
              <a:t>Vorteile:</a:t>
            </a: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ndale Mono"/>
              </a:rPr>
              <a:t>Direkte demokratische Legitimation von Entscheidungen</a:t>
            </a:r>
            <a:endParaRPr b="0" lang="en-US" sz="3000" spc="-1" strike="noStrike">
              <a:solidFill>
                <a:srgbClr val="000000"/>
              </a:solidFill>
              <a:latin typeface="Andale Mono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ndale Mono"/>
              </a:rPr>
              <a:t>Gleiche Beteiligungsmöglichkeit für Alle</a:t>
            </a:r>
            <a:endParaRPr b="0" lang="en-US" sz="3000" spc="-1" strike="noStrike">
              <a:solidFill>
                <a:srgbClr val="000000"/>
              </a:solidFill>
              <a:latin typeface="Andale Mo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1200" y="298440"/>
            <a:ext cx="9677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ndale Mono"/>
              </a:rPr>
              <a:t>Entscheidungen durch Mitgliederversammlungen</a:t>
            </a:r>
            <a:endParaRPr b="1" lang="en-US" sz="43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4440" y="1812600"/>
            <a:ext cx="9671040" cy="55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ale Mono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Andale Mono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ale Mono"/>
              </a:rPr>
              <a:t>Vorteile:</a:t>
            </a:r>
            <a:endParaRPr b="0" lang="en-US" sz="2700" spc="-1" strike="noStrike">
              <a:solidFill>
                <a:srgbClr val="000000"/>
              </a:solidFill>
              <a:latin typeface="Andale Mono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ndale Mono"/>
              </a:rPr>
              <a:t>Direkte demokratische Legitimation von Entscheidungen</a:t>
            </a:r>
            <a:endParaRPr b="0" lang="en-US" sz="2500" spc="-1" strike="noStrike">
              <a:solidFill>
                <a:srgbClr val="000000"/>
              </a:solidFill>
              <a:latin typeface="Andale Mono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ndale Mono"/>
              </a:rPr>
              <a:t>Gleiche Beteiligungsmöglichkeit für Alle</a:t>
            </a:r>
            <a:endParaRPr b="0" lang="en-US" sz="2500" spc="-1" strike="noStrike">
              <a:solidFill>
                <a:srgbClr val="000000"/>
              </a:solidFill>
              <a:latin typeface="Andale Mono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ale Mono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Andale Mono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ale Mono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Andale Mono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ale Mono"/>
              </a:rPr>
              <a:t>Nachteile:</a:t>
            </a:r>
            <a:endParaRPr b="0" lang="en-US" sz="2700" spc="-1" strike="noStrike">
              <a:solidFill>
                <a:srgbClr val="000000"/>
              </a:solidFill>
              <a:latin typeface="Andale Mono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ndale Mono"/>
              </a:rPr>
              <a:t>Nur zu wenigen einzelnen Zeitpunkten möglich</a:t>
            </a:r>
            <a:endParaRPr b="0" lang="en-US" sz="2500" spc="-1" strike="noStrike">
              <a:solidFill>
                <a:srgbClr val="000000"/>
              </a:solidFill>
              <a:latin typeface="Andale Mono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ndale Mono"/>
              </a:rPr>
              <a:t>Beschränkte Zahl von Anträgen, die beraten und behandelt werden</a:t>
            </a:r>
            <a:endParaRPr b="0" lang="en-US" sz="2500" spc="-1" strike="noStrike">
              <a:solidFill>
                <a:srgbClr val="000000"/>
              </a:solidFill>
              <a:latin typeface="Andale Mono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ndale Mono"/>
              </a:rPr>
              <a:t>Wenig Möglichkeit, an vorhandenen Anträgen zu arbeiten</a:t>
            </a:r>
            <a:endParaRPr b="0" lang="en-US" sz="2500" spc="-1" strike="noStrike">
              <a:solidFill>
                <a:srgbClr val="000000"/>
              </a:solidFill>
              <a:latin typeface="Andale Mono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ndale Mono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ndale Mo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677880"/>
            <a:ext cx="86360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e Mono"/>
              </a:rPr>
              <a:t>Inhalt</a:t>
            </a:r>
            <a:endParaRPr b="1" lang="en-US" sz="44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1760" y="2201760"/>
            <a:ext cx="863604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e Mono"/>
              </a:rPr>
              <a:t>Organisation: </a:t>
            </a:r>
            <a:r>
              <a:rPr b="0" lang="en-US" sz="3200" spc="-1" strike="noStrike">
                <a:solidFill>
                  <a:srgbClr val="000000"/>
                </a:solidFill>
                <a:latin typeface="Andale Mono"/>
              </a:rPr>
              <a:t>Parteistruktur oder Parteinetzwerk</a:t>
            </a: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-38088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e Mono"/>
              </a:rPr>
              <a:t>Einordnung von Liquid</a:t>
            </a:r>
            <a:r>
              <a:rPr b="0" lang="en-US" sz="3200" spc="-1" strike="noStrike">
                <a:solidFill>
                  <a:srgbClr val="000000"/>
                </a:solidFill>
                <a:latin typeface="Andale Mono"/>
              </a:rPr>
              <a:t>Feedback in Parteiarbeit</a:t>
            </a: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-38088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e Mono"/>
              </a:rPr>
              <a:t>Anwendungsbeispiele und Erfahrungen</a:t>
            </a: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-38088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e Mono"/>
              </a:rPr>
              <a:t>Organisation und Betrieb</a:t>
            </a: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-38088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e Mono"/>
              </a:rPr>
              <a:t>Fazit und Ausblick</a:t>
            </a: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1200" y="298440"/>
            <a:ext cx="9677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ndale Mono"/>
              </a:rPr>
              <a:t>LiquidFeedback für Mitgliederversammlungen</a:t>
            </a:r>
            <a:endParaRPr b="1" lang="en-US" sz="43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e Mono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ndale Mono"/>
              </a:rPr>
              <a:t>Möglichkeit für Antragsteller, quantifiziertes Feedback einzuholen</a:t>
            </a:r>
            <a:endParaRPr b="0" lang="en-US" sz="3000" spc="-1" strike="noStrike">
              <a:solidFill>
                <a:srgbClr val="000000"/>
              </a:solidFill>
              <a:latin typeface="Andale Mono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e Mono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ndale Mono"/>
              </a:rPr>
              <a:t>Orientierungshilfe für Teilnehmer</a:t>
            </a:r>
            <a:endParaRPr b="0" lang="en-US" sz="3000" spc="-1" strike="noStrike">
              <a:solidFill>
                <a:srgbClr val="000000"/>
              </a:solidFill>
              <a:latin typeface="Andale Mono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e Mono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ndale Mono"/>
              </a:rPr>
              <a:t>Orientierungshilfe bei der Vorbereitung (Sortierung und Gruppierung von Anträgen)</a:t>
            </a:r>
            <a:endParaRPr b="0" lang="en-US" sz="3000" spc="-1" strike="noStrike">
              <a:solidFill>
                <a:srgbClr val="000000"/>
              </a:solidFill>
              <a:latin typeface="Andale Mo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4440" y="301680"/>
            <a:ext cx="96710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ndale Mono"/>
              </a:rPr>
              <a:t>LiquidFeedback für Mitgliederversammlungen</a:t>
            </a:r>
            <a:endParaRPr b="1" lang="en-US" sz="43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e Mono"/>
              </a:rPr>
              <a:t>Dient weniger der Vorabstimmung als der Entwicklung von Anträgen</a:t>
            </a: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e Mono"/>
              </a:rPr>
              <a:t>Antragsteller profitieren dann, wenn sie den Antragsprozess begleiten und auf Feedback eingehen</a:t>
            </a: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2539800"/>
            <a:ext cx="86360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e Mono"/>
              </a:rPr>
              <a:t>Anwendungen in der Parteiarbeit</a:t>
            </a:r>
            <a:endParaRPr b="1" lang="en-US" sz="4400" spc="-1" strike="noStrike">
              <a:solidFill>
                <a:srgbClr val="000000"/>
              </a:solidFill>
              <a:latin typeface="Andale Mo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62120" y="1425600"/>
            <a:ext cx="863604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677880"/>
            <a:ext cx="86360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e Mono"/>
              </a:rPr>
              <a:t>Von der Idee zum Antrag</a:t>
            </a:r>
            <a:endParaRPr b="1" lang="en-US" sz="4400" spc="-1" strike="noStrike">
              <a:solidFill>
                <a:srgbClr val="000000"/>
              </a:solidFill>
              <a:latin typeface="Andale Mono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70040" y="2201760"/>
            <a:ext cx="8618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677880"/>
            <a:ext cx="86360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e Mono"/>
              </a:rPr>
              <a:t>Die Praxis</a:t>
            </a:r>
            <a:endParaRPr b="1" lang="en-US" sz="44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1760" y="2201760"/>
            <a:ext cx="863604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</a:rPr>
              <a:t>Meinungsbilder zu Vorstandssitzungen</a:t>
            </a: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</a:rPr>
              <a:t>Feedback zu Texten und Veröffentlichungen</a:t>
            </a: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</a:rPr>
              <a:t>Organisatorische Entscheidungen</a:t>
            </a: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</a:rPr>
              <a:t>Bearbeitung der Themenfelder und Programmatik</a:t>
            </a: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677880"/>
            <a:ext cx="86360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e Mono"/>
              </a:rPr>
              <a:t>Initiativenkochbuch</a:t>
            </a:r>
            <a:endParaRPr b="1" lang="en-US" sz="44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971440"/>
            <a:ext cx="9068040" cy="351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0" algn="ctr">
              <a:spcAft>
                <a:spcPts val="1412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</a:rPr>
              <a:t>Initiatoren brauchen Engagement.</a:t>
            </a: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0" algn="ctr">
              <a:spcAft>
                <a:spcPts val="1412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Inhalte brauchen Hintergr</a:t>
            </a: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ünd</a:t>
            </a: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e und Begr</a:t>
            </a: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ünd</a:t>
            </a: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ungen.</a:t>
            </a:r>
            <a:endParaRPr b="0" lang="en-US" sz="24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0" algn="ctr">
              <a:spcAft>
                <a:spcPts val="1412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ndale Mono"/>
              </a:rPr>
              <a:t>Diskussionen brauchen ein Medium.</a:t>
            </a:r>
            <a:endParaRPr b="0" lang="en-US" sz="35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0" algn="ctr">
              <a:spcAft>
                <a:spcPts val="1412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e Mono"/>
              </a:rPr>
              <a:t>Kampagnen brauchen Kommunikationmedien.</a:t>
            </a:r>
            <a:endParaRPr b="0" lang="en-US" sz="28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0" algn="ctr">
              <a:spcAft>
                <a:spcPts val="1412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e Mono"/>
              </a:rPr>
              <a:t>Streitgespr</a:t>
            </a:r>
            <a:r>
              <a:rPr b="0" lang="en-US" sz="3200" spc="-1" strike="noStrike">
                <a:solidFill>
                  <a:srgbClr val="000000"/>
                </a:solidFill>
                <a:latin typeface="Andale Mono"/>
              </a:rPr>
              <a:t>äch</a:t>
            </a:r>
            <a:r>
              <a:rPr b="0" lang="en-US" sz="3200" spc="-1" strike="noStrike">
                <a:solidFill>
                  <a:srgbClr val="000000"/>
                </a:solidFill>
                <a:latin typeface="Andale Mono"/>
              </a:rPr>
              <a:t>e brauchen einen Raum.</a:t>
            </a: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1760" y="677880"/>
            <a:ext cx="86360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le Mono"/>
              </a:rPr>
              <a:t>Antragsprozess und Diskussion</a:t>
            </a:r>
            <a:endParaRPr b="1" lang="en-US" sz="44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1760" y="2201760"/>
            <a:ext cx="863604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7000"/>
          </a:bodyPr>
          <a:p>
            <a:pPr marL="369360" indent="-369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e Mono"/>
              </a:rPr>
              <a:t>LiquidFeedback ist kein Diskussionsmedium, aber interagiert mit Diskussionen auf allen "üblichen" Kanälen</a:t>
            </a: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  <a:p>
            <a:pPr marL="369360" indent="-369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e Mono"/>
              </a:rPr>
              <a:t>Aus Diskussionen heraus können Positionen quantifiziert werden und Feedback erhalten</a:t>
            </a: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  <a:p>
            <a:pPr marL="369360" indent="-369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e Mono"/>
              </a:rPr>
              <a:t>Anregungen und Alternativen münden wiederum in Diskussionen außerhalb des Systems</a:t>
            </a: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1760" y="677880"/>
            <a:ext cx="86360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e Mono"/>
              </a:rPr>
              <a:t>Aufmerksamkeit erzeugen</a:t>
            </a:r>
            <a:endParaRPr b="1" lang="en-US" sz="4400" spc="-1" strike="noStrike">
              <a:solidFill>
                <a:srgbClr val="000000"/>
              </a:solidFill>
              <a:latin typeface="Andale Mono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62120" y="3571920"/>
            <a:ext cx="8636040" cy="2905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14400" y="198108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Kommunikation auf dem gesamten Weg zu einem Antrag und der Abstimmung, ist f</a:t>
            </a: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ur </a:t>
            </a: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Initiatoren unerl</a:t>
            </a:r>
            <a:r>
              <a:rPr b="0" lang="en-US" sz="2400" spc="-1" strike="noStrike">
                <a:solidFill>
                  <a:srgbClr val="000000"/>
                </a:solidFill>
                <a:latin typeface="Andale Mono"/>
                <a:ea typeface="ヒラギノ角ゴ ProN W3"/>
              </a:rPr>
              <a:t>äs</a:t>
            </a: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lich. Jede Initiative ist eine kleine (oder g</a:t>
            </a: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röße</a:t>
            </a: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re) Kampag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677880"/>
            <a:ext cx="86360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e Mono"/>
              </a:rPr>
              <a:t>Antragsprozess und Diskussion</a:t>
            </a:r>
            <a:endParaRPr b="1" lang="en-US" sz="44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1760" y="2971440"/>
            <a:ext cx="8636040" cy="3801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e Mono"/>
              </a:rPr>
              <a:t>Begleitung des Antragsprozesses außerhalb des Systems durch</a:t>
            </a: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  <a:p>
            <a:pPr marL="35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  <a:p>
            <a:pPr marL="357840" indent="-357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e Mono"/>
              </a:rPr>
              <a:t>Werbung für Initiativen</a:t>
            </a: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  <a:p>
            <a:pPr marL="357840" indent="-357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e Mono"/>
              </a:rPr>
              <a:t>Diskussion über alternative Initiativen und Anregungen</a:t>
            </a: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  <a:p>
            <a:pPr marL="357840" indent="-357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e Mono"/>
              </a:rPr>
              <a:t>Gemeinsame Ausarbeitung von Alternativen</a:t>
            </a: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677880"/>
            <a:ext cx="86360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e Mono"/>
              </a:rPr>
              <a:t>Struktur oder Netzwerk</a:t>
            </a:r>
            <a:endParaRPr b="1" lang="en-US" sz="44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2201760"/>
            <a:ext cx="424152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675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ale Mono"/>
              </a:rPr>
              <a:t>Vorstände</a:t>
            </a:r>
            <a:endParaRPr b="0" lang="en-US" sz="27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-380880">
              <a:spcBef>
                <a:spcPts val="675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ale Mono"/>
              </a:rPr>
              <a:t>AG’s</a:t>
            </a:r>
            <a:endParaRPr b="0" lang="en-US" sz="27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-380880">
              <a:spcBef>
                <a:spcPts val="675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ale Mono"/>
              </a:rPr>
              <a:t>Beauftragungen</a:t>
            </a:r>
            <a:endParaRPr b="0" lang="en-US" sz="27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-380880">
              <a:spcBef>
                <a:spcPts val="675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ale Mono"/>
              </a:rPr>
              <a:t>Organisation</a:t>
            </a:r>
            <a:endParaRPr b="0" lang="en-US" sz="27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-380880">
              <a:spcBef>
                <a:spcPts val="675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ale Mono"/>
              </a:rPr>
              <a:t>Berichte</a:t>
            </a:r>
            <a:endParaRPr b="0" lang="en-US" sz="27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-380880">
              <a:spcBef>
                <a:spcPts val="675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ale Mono"/>
              </a:rPr>
              <a:t>Anträge</a:t>
            </a:r>
            <a:endParaRPr b="0" lang="en-US" sz="27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0">
              <a:spcBef>
                <a:spcPts val="675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0" algn="ctr">
              <a:spcBef>
                <a:spcPts val="675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ale Mono"/>
              </a:rPr>
              <a:t>Mono-/Bidirektional</a:t>
            </a:r>
            <a:endParaRPr b="0" lang="en-US" sz="27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55920" y="2201400"/>
            <a:ext cx="4241880" cy="4046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9000"/>
          </a:bodyPr>
          <a:p>
            <a:pPr marL="376920" indent="-376920">
              <a:spcBef>
                <a:spcPts val="675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ale Mono"/>
              </a:rPr>
              <a:t>Individuen</a:t>
            </a:r>
            <a:endParaRPr b="0" lang="en-US" sz="2700" spc="-1" strike="noStrike">
              <a:solidFill>
                <a:srgbClr val="000000"/>
              </a:solidFill>
              <a:latin typeface="Andale Mono"/>
            </a:endParaRPr>
          </a:p>
          <a:p>
            <a:pPr marL="376920" indent="-376920">
              <a:spcBef>
                <a:spcPts val="675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ale Mono"/>
              </a:rPr>
              <a:t>Kleingruppen</a:t>
            </a:r>
            <a:endParaRPr b="0" lang="en-US" sz="2700" spc="-1" strike="noStrike">
              <a:solidFill>
                <a:srgbClr val="000000"/>
              </a:solidFill>
              <a:latin typeface="Andale Mono"/>
            </a:endParaRPr>
          </a:p>
          <a:p>
            <a:pPr marL="376920" indent="-376920">
              <a:spcBef>
                <a:spcPts val="675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ale Mono"/>
              </a:rPr>
              <a:t>Kampagnen</a:t>
            </a:r>
            <a:endParaRPr b="0" lang="en-US" sz="2700" spc="-1" strike="noStrike">
              <a:solidFill>
                <a:srgbClr val="000000"/>
              </a:solidFill>
              <a:latin typeface="Andale Mono"/>
            </a:endParaRPr>
          </a:p>
          <a:p>
            <a:pPr marL="376920" indent="-376920">
              <a:spcBef>
                <a:spcPts val="675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ale Mono"/>
              </a:rPr>
              <a:t>Delegation</a:t>
            </a:r>
            <a:endParaRPr b="0" lang="en-US" sz="2700" spc="-1" strike="noStrike">
              <a:solidFill>
                <a:srgbClr val="000000"/>
              </a:solidFill>
              <a:latin typeface="Andale Mono"/>
            </a:endParaRPr>
          </a:p>
          <a:p>
            <a:pPr marL="376920" indent="-376920">
              <a:spcBef>
                <a:spcPts val="675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ale Mono"/>
              </a:rPr>
              <a:t>Information</a:t>
            </a:r>
            <a:endParaRPr b="0" lang="en-US" sz="2700" spc="-1" strike="noStrike">
              <a:solidFill>
                <a:srgbClr val="000000"/>
              </a:solidFill>
              <a:latin typeface="Andale Mono"/>
            </a:endParaRPr>
          </a:p>
          <a:p>
            <a:pPr marL="376920" indent="-376920">
              <a:spcBef>
                <a:spcPts val="675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ale Mono"/>
              </a:rPr>
              <a:t>Engagement</a:t>
            </a:r>
            <a:endParaRPr b="0" lang="en-US" sz="2700" spc="-1" strike="noStrike">
              <a:solidFill>
                <a:srgbClr val="000000"/>
              </a:solidFill>
              <a:latin typeface="Andale Mono"/>
            </a:endParaRPr>
          </a:p>
          <a:p>
            <a:pPr marL="376920" indent="0">
              <a:spcBef>
                <a:spcPts val="675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Andale Mono"/>
            </a:endParaRPr>
          </a:p>
          <a:p>
            <a:pPr marL="376920" indent="0" algn="ctr">
              <a:spcBef>
                <a:spcPts val="675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ale Mono"/>
              </a:rPr>
              <a:t>Omnidirektional</a:t>
            </a:r>
            <a:endParaRPr b="0" lang="en-US" sz="2700" spc="-1" strike="noStrike">
              <a:solidFill>
                <a:srgbClr val="000000"/>
              </a:solidFill>
              <a:latin typeface="Andale Mo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2539800"/>
            <a:ext cx="86360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e Mono"/>
              </a:rPr>
              <a:t>Organisation und Betrieb</a:t>
            </a:r>
            <a:endParaRPr b="1" lang="en-US" sz="4400" spc="-1" strike="noStrike">
              <a:solidFill>
                <a:srgbClr val="000000"/>
              </a:solidFill>
              <a:latin typeface="Andale Mo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1760" y="677880"/>
            <a:ext cx="86360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dale Mono"/>
              </a:rPr>
              <a:t>Ein Prozess ist eine Prozess ist ein Prozess ist ein Prozess ist ein Prozess</a:t>
            </a:r>
            <a:endParaRPr b="1" lang="en-US" sz="28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2201760"/>
            <a:ext cx="863604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Aft>
                <a:spcPts val="1412"/>
              </a:spcAft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Welche Prozesse sollen in das LiquidFeedback?</a:t>
            </a:r>
            <a:endParaRPr b="0" lang="en-US" sz="24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-380880">
              <a:spcAft>
                <a:spcPts val="1412"/>
              </a:spcAft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Wie verbindlich sind Entscheidungen in LF?</a:t>
            </a:r>
            <a:endParaRPr b="0" lang="en-US" sz="24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-380880">
              <a:spcAft>
                <a:spcPts val="1412"/>
              </a:spcAft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Welche Auswirkungen haben Entscheidungen in LF?</a:t>
            </a:r>
            <a:endParaRPr b="0" lang="en-US" sz="24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-380880">
              <a:spcAft>
                <a:spcPts val="1412"/>
              </a:spcAft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Wie werden </a:t>
            </a: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Än</a:t>
            </a: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derungen am System umgesetzt?</a:t>
            </a:r>
            <a:endParaRPr b="0" lang="en-US" sz="24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-380880">
              <a:spcAft>
                <a:spcPts val="1412"/>
              </a:spcAft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Welche Diskussionsplattformen werden angeboten?</a:t>
            </a:r>
            <a:endParaRPr b="0" lang="en-US" sz="24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-380880">
              <a:spcAft>
                <a:spcPts val="1412"/>
              </a:spcAft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Welche Erweiterungen bietet die Partei an?</a:t>
            </a:r>
            <a:endParaRPr b="0" lang="en-US" sz="2400" spc="-1" strike="noStrike">
              <a:solidFill>
                <a:srgbClr val="000000"/>
              </a:solidFill>
              <a:latin typeface="Andale Mo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677880"/>
            <a:ext cx="86360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dale Mono"/>
              </a:rPr>
              <a:t>Good Practice der Regelwerke und Themenbereiche</a:t>
            </a:r>
            <a:endParaRPr b="1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1760" y="2201760"/>
            <a:ext cx="863604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</a:rPr>
              <a:t>Normaler Weise länger als eine Werkwoche</a:t>
            </a: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</a:rPr>
              <a:t>Eindeutige Benennung</a:t>
            </a: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</a:rPr>
              <a:t>Verwendung genau beschrieben</a:t>
            </a: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</a:rPr>
              <a:t>Themenbereiche möglichst weit unterteilt, aber eindeutige Zuordnung beachten!</a:t>
            </a: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1760" y="677880"/>
            <a:ext cx="86360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e Mono"/>
              </a:rPr>
              <a:t>Zugang zum System organisieren</a:t>
            </a:r>
            <a:endParaRPr b="1" lang="en-US" sz="44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2201760"/>
            <a:ext cx="863604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</a:rPr>
              <a:t>Wer erhält wann eine Einladung bzw. wird rausgeworfen?</a:t>
            </a: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</a:rPr>
              <a:t>Wie wird der Zugang für die offline-Piraten organisiert</a:t>
            </a: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</a:rPr>
              <a:t>Wie geschieht Schulung und Wissensvermittlung?</a:t>
            </a: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677880"/>
            <a:ext cx="86360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e Mono"/>
              </a:rPr>
              <a:t>Aggregatoren und API</a:t>
            </a:r>
            <a:endParaRPr b="1" lang="en-US" sz="44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2201760"/>
            <a:ext cx="863604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</a:rPr>
              <a:t>Aufbearbeitung der Informationen durch die Partei?! (offiziell)</a:t>
            </a: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</a:rPr>
              <a:t>Präsentation und Auswertung von LF</a:t>
            </a: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1760" y="2539800"/>
            <a:ext cx="86360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e Mono"/>
              </a:rPr>
              <a:t>Fazit und Ausblick</a:t>
            </a:r>
            <a:endParaRPr b="1" lang="en-US" sz="4400" spc="-1" strike="noStrike">
              <a:solidFill>
                <a:srgbClr val="000000"/>
              </a:solidFill>
              <a:latin typeface="Andale Mo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1760" y="677880"/>
            <a:ext cx="86360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e Mono"/>
              </a:rPr>
              <a:t>Netzblicke</a:t>
            </a:r>
            <a:endParaRPr b="1" lang="en-US" sz="44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2590920"/>
            <a:ext cx="8305920" cy="40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e Mono"/>
                <a:ea typeface="Osaka"/>
              </a:rPr>
              <a:t>Die offenen Netzwerke aus Informationen und Personen lassen Rüc</a:t>
            </a:r>
            <a:r>
              <a:rPr b="0" lang="en-US" sz="3200" spc="-1" strike="noStrike">
                <a:solidFill>
                  <a:srgbClr val="000000"/>
                </a:solidFill>
                <a:latin typeface="Andale Mono"/>
                <a:ea typeface="Osak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ndale Mono"/>
                <a:ea typeface="Osaka"/>
              </a:rPr>
              <a:t>schlüs</a:t>
            </a:r>
            <a:r>
              <a:rPr b="0" lang="en-US" sz="3200" spc="-1" strike="noStrike">
                <a:solidFill>
                  <a:srgbClr val="000000"/>
                </a:solidFill>
                <a:latin typeface="Andale Mono"/>
                <a:ea typeface="Osak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ndale Mono"/>
                <a:ea typeface="Osaka"/>
              </a:rPr>
              <a:t>e auf Aktivität</a:t>
            </a:r>
            <a:r>
              <a:rPr b="0" lang="en-US" sz="3200" spc="-1" strike="noStrike">
                <a:solidFill>
                  <a:srgbClr val="000000"/>
                </a:solidFill>
                <a:latin typeface="Andale Mono"/>
                <a:ea typeface="Osak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ndale Mono"/>
                <a:ea typeface="Osaka"/>
              </a:rPr>
              <a:t> politische Demographie und Kompetenz zu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e Mono"/>
                <a:ea typeface="Osaka"/>
              </a:rPr>
              <a:t>Ein Blick in das LiquidFeedback ist ein Blick in die Parte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677880"/>
            <a:ext cx="86360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e Mono"/>
              </a:rPr>
              <a:t>Fließende Aussagen</a:t>
            </a:r>
            <a:endParaRPr b="1" lang="en-US" sz="44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1760" y="2201760"/>
            <a:ext cx="863604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799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e Mono"/>
              </a:rPr>
              <a:t>Legitimiert und kurzfristig möglich (zB Lokalpolitik)</a:t>
            </a: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-380880">
              <a:spcBef>
                <a:spcPts val="799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e Mono"/>
              </a:rPr>
              <a:t>Entscheidungen und Mehrheiten werden nach Außen und Innen hin ehrlich transportierbar.</a:t>
            </a: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-380880">
              <a:spcBef>
                <a:spcPts val="799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e Mono"/>
              </a:rPr>
              <a:t>Piraten wachsen mit Programm und umgekehrt</a:t>
            </a: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-380880">
              <a:spcBef>
                <a:spcPts val="799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e Mono"/>
              </a:rPr>
              <a:t>Aussagefähigkeit zur Tagespolitik</a:t>
            </a: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677880"/>
            <a:ext cx="86360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e Mono"/>
              </a:rPr>
              <a:t>Ausblicke</a:t>
            </a:r>
            <a:endParaRPr b="1" lang="en-US" sz="44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1760" y="2201760"/>
            <a:ext cx="863604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</a:rPr>
              <a:t>Zusammenarbeit in Fraktionen</a:t>
            </a: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</a:rPr>
              <a:t>Feedback der Parteibasis für Mandatsträger</a:t>
            </a: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</a:rPr>
              <a:t>LiquidFeedback für Bezirke, lokale Strukturen, Bürgerhaushalte</a:t>
            </a: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677880"/>
            <a:ext cx="86360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e Mono"/>
              </a:rPr>
              <a:t>Parteistrukturen</a:t>
            </a:r>
            <a:endParaRPr b="1" lang="en-US" sz="44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2201760"/>
            <a:ext cx="8686800" cy="4732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e Mono"/>
              </a:rPr>
              <a:t>Verlässliche Partner</a:t>
            </a: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-380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e Mono"/>
              </a:rPr>
              <a:t>Festgeschriebene Verantwortlichkeit</a:t>
            </a: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-380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e Mono"/>
              </a:rPr>
              <a:t>Organisation zwischen wenigen Personen einfacher</a:t>
            </a: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-380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e Mono"/>
              </a:rPr>
              <a:t>Vermeindlich unflexibel</a:t>
            </a: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-380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e Mono"/>
              </a:rPr>
              <a:t>Wenig personell durchlässig</a:t>
            </a: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-380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e Mono"/>
              </a:rPr>
              <a:t>Bei thematischer Unterscheidung nicht parallel</a:t>
            </a: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677880"/>
            <a:ext cx="86360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e Mono"/>
              </a:rPr>
              <a:t>Parteinetzwerke</a:t>
            </a:r>
            <a:endParaRPr b="1" lang="en-US" sz="44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2201760"/>
            <a:ext cx="863604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</a:rPr>
              <a:t>Einfacher Zugang</a:t>
            </a: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</a:rPr>
              <a:t>Persönliches Vertrauen und Kompetenz</a:t>
            </a: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</a:rPr>
              <a:t>Lockere Bindungen</a:t>
            </a: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</a:rPr>
              <a:t>Flexibilität</a:t>
            </a: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</a:rPr>
              <a:t>Vermeintlich unverbindlich</a:t>
            </a: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2539800"/>
            <a:ext cx="86360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e Mono"/>
              </a:rPr>
              <a:t>Einordnung in Parteiarbeit</a:t>
            </a:r>
            <a:endParaRPr b="1" lang="en-US" sz="4400" spc="-1" strike="noStrike">
              <a:solidFill>
                <a:srgbClr val="000000"/>
              </a:solidFill>
              <a:latin typeface="Andale Mo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677880"/>
            <a:ext cx="86360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e Mono"/>
              </a:rPr>
              <a:t>Organisationsstrukturen</a:t>
            </a:r>
            <a:endParaRPr b="1" lang="en-US" sz="44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2201760"/>
            <a:ext cx="863604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0" algn="ctr">
              <a:lnSpc>
                <a:spcPct val="170000"/>
              </a:lnSpc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dale Mono"/>
              </a:rPr>
              <a:t>Basis</a:t>
            </a: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0" algn="ctr">
              <a:lnSpc>
                <a:spcPct val="170000"/>
              </a:lnSpc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dale Mono"/>
              </a:rPr>
              <a:t>Delegierte</a:t>
            </a: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0" algn="ctr">
              <a:lnSpc>
                <a:spcPct val="170000"/>
              </a:lnSpc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dale Mono"/>
              </a:rPr>
              <a:t>Vorstände</a:t>
            </a: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0" algn="ctr">
              <a:lnSpc>
                <a:spcPct val="170000"/>
              </a:lnSpc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dale Mono"/>
              </a:rPr>
              <a:t>Mitgliederversammlungen</a:t>
            </a: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677880"/>
            <a:ext cx="86360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e Mono"/>
              </a:rPr>
              <a:t>Organisationsstrukturen</a:t>
            </a:r>
            <a:endParaRPr b="1" lang="en-US" sz="44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01760"/>
            <a:ext cx="863604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</a:rPr>
              <a:t>Basis</a:t>
            </a: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ndale Mono"/>
              </a:rPr>
              <a:t>LiquidFeedback</a:t>
            </a: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</a:rPr>
              <a:t>Vorstände</a:t>
            </a: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  <a:p>
            <a:pPr marL="380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e Mono"/>
              </a:rPr>
              <a:t>Mitgliedersammlungen</a:t>
            </a:r>
            <a:endParaRPr b="0" lang="en-US" sz="3600" spc="-1" strike="noStrike">
              <a:solidFill>
                <a:srgbClr val="000000"/>
              </a:solidFill>
              <a:latin typeface="Andale Mo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9120" y="306360"/>
            <a:ext cx="96616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ndale Mono"/>
              </a:rPr>
              <a:t>Wie funktioniert Innovation in politischen Parteien?</a:t>
            </a:r>
            <a:endParaRPr b="1" lang="en-US" sz="4300" spc="-1" strike="noStrike">
              <a:solidFill>
                <a:srgbClr val="000000"/>
              </a:solidFill>
              <a:latin typeface="Andale Mon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877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ndale Mono"/>
              </a:rPr>
              <a:t>Erarbeitung von Ideen in festen Gruppen und Strukturen</a:t>
            </a:r>
            <a:endParaRPr b="0" lang="en-US" sz="3000" spc="-1" strike="noStrike">
              <a:solidFill>
                <a:srgbClr val="000000"/>
              </a:solidFill>
              <a:latin typeface="Andale Mono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e Mono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ndale Mono"/>
              </a:rPr>
              <a:t>Erarbeitung von Ideen durch Einzelpersonen</a:t>
            </a:r>
            <a:endParaRPr b="0" lang="en-US" sz="3000" spc="-1" strike="noStrike">
              <a:solidFill>
                <a:srgbClr val="000000"/>
              </a:solidFill>
              <a:latin typeface="Andale Mono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e Mono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ndale Mono"/>
              </a:rPr>
              <a:t>Entscheidung durch Vertreterorgane</a:t>
            </a:r>
            <a:endParaRPr b="0" lang="en-US" sz="3000" spc="-1" strike="noStrike">
              <a:solidFill>
                <a:srgbClr val="000000"/>
              </a:solidFill>
              <a:latin typeface="Andale Mono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e Mono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ndale Mono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ale Mono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ndale Mono"/>
              </a:rPr>
              <a:t>Entscheidung durch Mitgliederversammlungen </a:t>
            </a:r>
            <a:endParaRPr b="0" lang="en-US" sz="3000" spc="-1" strike="noStrike">
              <a:solidFill>
                <a:srgbClr val="000000"/>
              </a:solidFill>
              <a:latin typeface="Andale Mo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Rolf Schneider</cp:lastModifiedBy>
  <cp:lastPrinted>2010-12-09T17:41:00Z</cp:lastPrinted>
  <dcterms:modified xsi:type="dcterms:W3CDTF">2010-12-11T07:32:55Z</dcterms:modified>
  <cp:revision>4</cp:revision>
  <dc:subject/>
  <dc:title>PowerPoint Presentation</dc:title>
</cp:coreProperties>
</file>