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FC5-DD63-4EFA-BE01-728A4038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FD6-C22C-48DB-AF14-83117159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CE3-ED04-4076-A234-C4B5BB40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A76-1A21-45CE-B2CC-153546A4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580-98F8-4DA2-8BCE-3154A4E4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F73-AE36-4521-A684-9E658919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B70-DBA7-4DB7-98A2-B9EBF748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FB7-A3F3-4318-98D9-8D20B1CE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AB1-A7B4-41A7-A7CC-DFE5527F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40E-C201-4BC5-A886-E6ED644C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620-BEEB-49DC-829B-EE53F84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C57-66EA-4BA5-B150-C3E001C7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0CFDE-7A86-4738-84D4-2083DC5C53F7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olitics Head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08000"/>
            <a:ext cx="10078920" cy="766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647640" y="1481040"/>
            <a:ext cx="8783640" cy="5072040"/>
          </a:xfrm>
          <a:custGeom>
            <a:avLst/>
            <a:gdLst/>
            <a:ahLst/>
            <a:rect l="l" t="t" r="r" b="b"/>
            <a:pathLst>
              <a:path w="24401" h="14087">
                <a:moveTo>
                  <a:pt x="0" y="14086"/>
                </a:moveTo>
                <a:lnTo>
                  <a:pt x="1072" y="400"/>
                </a:lnTo>
                <a:lnTo>
                  <a:pt x="23200" y="0"/>
                </a:lnTo>
                <a:lnTo>
                  <a:pt x="24400" y="13486"/>
                </a:lnTo>
                <a:lnTo>
                  <a:pt x="0" y="14086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0920" cy="27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DejaRip"/>
              </a:rPr>
              <a:t>Übersch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DejaRip"/>
              </a:rPr>
              <a:t>Fliesstext. Fliesstext. Fliesstext. Fliess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4360" y="4103640"/>
            <a:ext cx="7550280" cy="3389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sp>
        <p:nvSpPr>
          <p:cNvPr id="45" name=""/>
          <p:cNvSpPr/>
          <p:nvPr/>
        </p:nvSpPr>
        <p:spPr>
          <a:xfrm rot="21480000">
            <a:off x="2712960" y="398160"/>
            <a:ext cx="4756320" cy="833400"/>
          </a:xfrm>
          <a:prstGeom prst="rect">
            <a:avLst/>
          </a:prstGeom>
          <a:gradFill rotWithShape="0">
            <a:gsLst>
              <a:gs pos="0">
                <a:srgbClr val="4c4c4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 rot="21480000">
            <a:off x="2738160" y="417240"/>
            <a:ext cx="4707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12852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000" spc="-1" strike="noStrike">
                <a:solidFill>
                  <a:srgbClr val="ffffff"/>
                </a:solidFill>
                <a:latin typeface="Politics Head Bold"/>
              </a:rPr>
              <a:t>Überschrif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20000">
            <a:off x="3285720" y="1257480"/>
            <a:ext cx="4103640" cy="720720"/>
          </a:xfrm>
          <a:prstGeom prst="rect">
            <a:avLst/>
          </a:prstGeom>
          <a:gradFill rotWithShape="0">
            <a:gsLst>
              <a:gs pos="0">
                <a:srgbClr val="ff6412"/>
              </a:gs>
              <a:gs pos="100000">
                <a:srgbClr val="ff9612"/>
              </a:gs>
            </a:gsLst>
            <a:lin ang="900000"/>
          </a:gradFill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48" name=""/>
          <p:cNvSpPr/>
          <p:nvPr/>
        </p:nvSpPr>
        <p:spPr>
          <a:xfrm rot="120000">
            <a:off x="3463920" y="1336680"/>
            <a:ext cx="3795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Politics Head Bold"/>
              </a:rPr>
              <a:t>Überschrift</a:t>
            </a:r>
            <a:endParaRPr b="0" lang="en-US" sz="4800" spc="-1" strike="noStrike">
              <a:solidFill>
                <a:srgbClr val="000000"/>
              </a:solidFill>
              <a:latin typeface="Politics Head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08000"/>
            <a:ext cx="10078920" cy="766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-144360" y="936720"/>
            <a:ext cx="10368000" cy="5616360"/>
          </a:xfrm>
          <a:custGeom>
            <a:avLst/>
            <a:gdLst/>
            <a:ahLst/>
            <a:rect l="l" t="t" r="r" b="b"/>
            <a:pathLst>
              <a:path w="28801" h="15601">
                <a:moveTo>
                  <a:pt x="0" y="15600"/>
                </a:moveTo>
                <a:lnTo>
                  <a:pt x="0" y="800"/>
                </a:lnTo>
                <a:lnTo>
                  <a:pt x="28400" y="0"/>
                </a:lnTo>
                <a:lnTo>
                  <a:pt x="28800" y="14600"/>
                </a:lnTo>
                <a:lnTo>
                  <a:pt x="0" y="15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51" name=""/>
          <p:cNvSpPr/>
          <p:nvPr/>
        </p:nvSpPr>
        <p:spPr>
          <a:xfrm rot="120000">
            <a:off x="204840" y="853920"/>
            <a:ext cx="3478320" cy="598680"/>
          </a:xfrm>
          <a:prstGeom prst="rect">
            <a:avLst/>
          </a:prstGeom>
          <a:gradFill rotWithShape="0">
            <a:gsLst>
              <a:gs pos="0">
                <a:srgbClr val="ff6412"/>
              </a:gs>
              <a:gs pos="100000">
                <a:srgbClr val="ff9612"/>
              </a:gs>
            </a:gsLst>
            <a:lin ang="900000"/>
          </a:gradFill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120000">
            <a:off x="46080" y="866880"/>
            <a:ext cx="379584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8568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Politics Head Bold"/>
              </a:rPr>
              <a:t>Übersch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43640" y="5400720"/>
            <a:ext cx="4662360" cy="209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sp>
        <p:nvSpPr>
          <p:cNvPr id="54" name=""/>
          <p:cNvSpPr/>
          <p:nvPr/>
        </p:nvSpPr>
        <p:spPr>
          <a:xfrm rot="21480000">
            <a:off x="708120" y="146160"/>
            <a:ext cx="4103640" cy="720720"/>
          </a:xfrm>
          <a:prstGeom prst="rect">
            <a:avLst/>
          </a:prstGeom>
          <a:gradFill rotWithShape="0">
            <a:gsLst>
              <a:gs pos="0">
                <a:srgbClr val="4c4c4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55" name=""/>
          <p:cNvSpPr/>
          <p:nvPr/>
        </p:nvSpPr>
        <p:spPr>
          <a:xfrm rot="21480000">
            <a:off x="887040" y="189000"/>
            <a:ext cx="3795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Politics Head Bold"/>
              </a:rPr>
              <a:t>Überschrift</a:t>
            </a:r>
            <a:endParaRPr b="0" lang="en-US" sz="4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16000" y="2124000"/>
            <a:ext cx="78487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DejaRip"/>
              </a:rPr>
              <a:t>Übersch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DejaRip"/>
              </a:rPr>
              <a:t>Die verwendeten Schriften gibt es h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DejaRip"/>
              </a:rPr>
              <a:t>http://gestaltung.piratenpartei.de/politics-head-eine-eigene-headline-schrift-fur-die-piratenparte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10078920" cy="763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44360" y="936720"/>
            <a:ext cx="10368000" cy="5616360"/>
          </a:xfrm>
          <a:custGeom>
            <a:avLst/>
            <a:gdLst/>
            <a:ahLst/>
            <a:rect l="l" t="t" r="r" b="b"/>
            <a:pathLst>
              <a:path w="28801" h="15601">
                <a:moveTo>
                  <a:pt x="0" y="15600"/>
                </a:moveTo>
                <a:lnTo>
                  <a:pt x="0" y="800"/>
                </a:lnTo>
                <a:lnTo>
                  <a:pt x="28400" y="0"/>
                </a:lnTo>
                <a:lnTo>
                  <a:pt x="28800" y="14600"/>
                </a:lnTo>
                <a:lnTo>
                  <a:pt x="0" y="15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59" name=""/>
          <p:cNvSpPr/>
          <p:nvPr/>
        </p:nvSpPr>
        <p:spPr>
          <a:xfrm rot="120000">
            <a:off x="204840" y="853920"/>
            <a:ext cx="3478320" cy="598680"/>
          </a:xfrm>
          <a:prstGeom prst="rect">
            <a:avLst/>
          </a:prstGeom>
          <a:gradFill rotWithShape="0">
            <a:gsLst>
              <a:gs pos="0">
                <a:srgbClr val="2864c8"/>
              </a:gs>
              <a:gs pos="100000">
                <a:srgbClr val="0099ff"/>
              </a:gs>
            </a:gsLst>
            <a:lin ang="900000"/>
          </a:gradFill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120000">
            <a:off x="46080" y="866880"/>
            <a:ext cx="379584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8568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Politics Head Bold"/>
              </a:rPr>
              <a:t>Übersch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71640" y="2057400"/>
            <a:ext cx="457200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DejaRip"/>
              </a:rPr>
              <a:t>Übersch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DejaRip"/>
              </a:rPr>
              <a:t>Fliesstext. Fliesstex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DejaRip"/>
              </a:rPr>
              <a:t>Fliesstext. Fliess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DejaRip"/>
              </a:rPr>
              <a:t>Fliesstext. Fliess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DejaRip"/>
              </a:rPr>
              <a:t>Fliesstex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43640" y="5400720"/>
            <a:ext cx="4662360" cy="209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 rot="21480000">
            <a:off x="708120" y="146160"/>
            <a:ext cx="4103640" cy="720720"/>
          </a:xfrm>
          <a:prstGeom prst="rect">
            <a:avLst/>
          </a:prstGeom>
          <a:gradFill rotWithShape="0">
            <a:gsLst>
              <a:gs pos="0">
                <a:srgbClr val="4c4c4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64" name=""/>
          <p:cNvSpPr/>
          <p:nvPr/>
        </p:nvSpPr>
        <p:spPr>
          <a:xfrm rot="21480000">
            <a:off x="887040" y="189000"/>
            <a:ext cx="3795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Politics Head Bold"/>
              </a:rPr>
              <a:t>Überschrift</a:t>
            </a:r>
            <a:endParaRPr b="0" lang="en-US" sz="4800" spc="-1" strike="noStrike">
              <a:solidFill>
                <a:srgbClr val="000000"/>
              </a:solidFill>
              <a:latin typeface="Politics Head Bol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8360" y="2843280"/>
            <a:ext cx="360360" cy="36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68360" y="3276720"/>
            <a:ext cx="360360" cy="36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68360" y="3708360"/>
            <a:ext cx="360360" cy="36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68360" y="4140360"/>
            <a:ext cx="360360" cy="36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sp>
        <p:nvSpPr>
          <p:cNvPr id="69" name=""/>
          <p:cNvSpPr/>
          <p:nvPr/>
        </p:nvSpPr>
        <p:spPr>
          <a:xfrm>
            <a:off x="5037120" y="1619280"/>
            <a:ext cx="4253040" cy="3960720"/>
          </a:xfrm>
          <a:custGeom>
            <a:avLst/>
            <a:gdLst/>
            <a:ahLst/>
            <a:rect l="l" t="t" r="r" b="b"/>
            <a:pathLst>
              <a:path w="11814" h="11001">
                <a:moveTo>
                  <a:pt x="0" y="10200"/>
                </a:moveTo>
                <a:lnTo>
                  <a:pt x="263" y="0"/>
                </a:lnTo>
                <a:lnTo>
                  <a:pt x="11288" y="300"/>
                </a:lnTo>
                <a:lnTo>
                  <a:pt x="11813" y="11000"/>
                </a:lnTo>
                <a:lnTo>
                  <a:pt x="0" y="10200"/>
                </a:lnTo>
              </a:path>
            </a:pathLst>
          </a:custGeom>
          <a:gradFill rotWithShape="0">
            <a:gsLst>
              <a:gs pos="0">
                <a:srgbClr val="2864c8"/>
              </a:gs>
              <a:gs pos="100000">
                <a:srgbClr val="0099ff"/>
              </a:gs>
            </a:gsLst>
            <a:lin ang="9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70" name=""/>
          <p:cNvSpPr/>
          <p:nvPr/>
        </p:nvSpPr>
        <p:spPr>
          <a:xfrm>
            <a:off x="4896000" y="1728720"/>
            <a:ext cx="4537080" cy="3672000"/>
          </a:xfrm>
          <a:custGeom>
            <a:avLst/>
            <a:gdLst/>
            <a:ahLst/>
            <a:rect l="l" t="t" r="r" b="b"/>
            <a:pathLst>
              <a:path w="12601" h="10201">
                <a:moveTo>
                  <a:pt x="0" y="9800"/>
                </a:moveTo>
                <a:lnTo>
                  <a:pt x="0" y="0"/>
                </a:lnTo>
                <a:lnTo>
                  <a:pt x="11813" y="0"/>
                </a:lnTo>
                <a:lnTo>
                  <a:pt x="12600" y="10200"/>
                </a:lnTo>
                <a:lnTo>
                  <a:pt x="0" y="9800"/>
                </a:lnTo>
              </a:path>
            </a:pathLst>
          </a:custGeom>
          <a:gradFill rotWithShape="0">
            <a:gsLst>
              <a:gs pos="0">
                <a:srgbClr val="4c4c4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olitics Head Bold"/>
            </a:endParaRPr>
          </a:p>
        </p:txBody>
      </p:sp>
      <p:sp>
        <p:nvSpPr>
          <p:cNvPr id="71" name=""/>
          <p:cNvSpPr/>
          <p:nvPr/>
        </p:nvSpPr>
        <p:spPr>
          <a:xfrm>
            <a:off x="5184720" y="1979640"/>
            <a:ext cx="396252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DejaRip"/>
              </a:rPr>
              <a:t>Überschrift</a:t>
            </a:r>
            <a:endParaRPr b="0" lang="en-US" sz="3200" spc="-1" strike="noStrike">
              <a:solidFill>
                <a:srgbClr val="000000"/>
              </a:solidFill>
              <a:latin typeface="Politics Head Bold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864c8"/>
                </a:solidFill>
                <a:latin typeface="DejaRip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DejaRip"/>
              </a:rPr>
              <a:t>Textbox. Textbox. Textbox. Textbox. </a:t>
            </a:r>
            <a:endParaRPr b="0" lang="en-US" sz="2800" spc="-1" strike="noStrike">
              <a:solidFill>
                <a:srgbClr val="000000"/>
              </a:solidFill>
              <a:latin typeface="Politics Head Bold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DejaRip"/>
              </a:rPr>
              <a:t>Textbox. Textbox. Textbox. Textbox. </a:t>
            </a:r>
            <a:endParaRPr b="0" lang="en-US" sz="2800" spc="-1" strike="noStrike">
              <a:solidFill>
                <a:srgbClr val="000000"/>
              </a:solidFill>
              <a:latin typeface="Politics Head Bold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DejaRip"/>
              </a:rPr>
              <a:t>Textbox. Textbox. Textbox... </a:t>
            </a:r>
            <a:r>
              <a:rPr b="0" lang="de-DE" sz="2800" spc="-1" strike="noStrike">
                <a:solidFill>
                  <a:srgbClr val="2864c8"/>
                </a:solidFill>
                <a:latin typeface="DejaRip"/>
              </a:rPr>
              <a:t>„</a:t>
            </a:r>
            <a:endParaRPr b="0" lang="en-US" sz="2800" spc="-1" strike="noStrike">
              <a:solidFill>
                <a:srgbClr val="000000"/>
              </a:solidFill>
              <a:latin typeface="Politics Head Bold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743200" y="4564080"/>
            <a:ext cx="1432080" cy="1266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4:00:42Z</dcterms:created>
  <dc:creator/>
  <dc:description/>
  <dc:language>en-US</dc:language>
  <cp:lastModifiedBy/>
  <dcterms:modified xsi:type="dcterms:W3CDTF">2013-05-13T16:27:05Z</dcterms:modified>
  <cp:revision>6</cp:revision>
  <dc:subject/>
  <dc:title/>
</cp:coreProperties>
</file>