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558-9D7C-4A84-904C-C11AE585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13B-DEE6-46AF-8365-05EBE54B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661-AA40-481F-84CB-7008CF07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E775-5F44-4B94-A0A6-80083670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3BF-E202-4980-872F-06835DCD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D61-E94D-435D-8603-238ADC82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5BD-B198-4030-B696-3650D748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58C-4DDC-4EDF-A7A2-FE6CFAEB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3C7-AF7E-4FFC-A74D-AE2C9C4C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FCF-57BE-45E7-8F00-0B824204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B63-8D94-48C8-B041-F46A2094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391-16A3-4FFA-BF22-78DA2011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ADF8-F4C9-4BB9-B3A4-AF9A3B502BE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953" r="0" b="6711"/>
          <a:stretch/>
        </p:blipFill>
        <p:spPr>
          <a:xfrm>
            <a:off x="0" y="0"/>
            <a:ext cx="9144000" cy="6194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227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50920" y="2997360"/>
            <a:ext cx="1225800" cy="684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 rot="20801400">
            <a:off x="6300360" y="2923920"/>
            <a:ext cx="1225440" cy="68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2720" y="632952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farbig schwa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2953" r="0" b="6711"/>
          <a:stretch/>
        </p:blipFill>
        <p:spPr>
          <a:xfrm>
            <a:off x="0" y="0"/>
            <a:ext cx="9144000" cy="6194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050920" y="2997360"/>
            <a:ext cx="1225800" cy="68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 rot="20801400">
            <a:off x="6300360" y="2923920"/>
            <a:ext cx="1225440" cy="68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2720" y="632952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farbig schwa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50200" y="288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25440" y="2727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953" r="0" b="6711"/>
          <a:stretch/>
        </p:blipFill>
        <p:spPr>
          <a:xfrm>
            <a:off x="0" y="0"/>
            <a:ext cx="9144000" cy="6194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227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050920" y="2997360"/>
            <a:ext cx="1225800" cy="68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 rot="20801400">
            <a:off x="6300360" y="2923920"/>
            <a:ext cx="1225440" cy="68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2720" y="632952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farbig schwa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8160" y="3429000"/>
            <a:ext cx="148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ttp://piratenpartei.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9800" y="3573360"/>
            <a:ext cx="148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ttp://piratenpartei.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2953" r="0" b="6711"/>
          <a:stretch/>
        </p:blipFill>
        <p:spPr>
          <a:xfrm>
            <a:off x="0" y="0"/>
            <a:ext cx="9144000" cy="6194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1225800" cy="684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227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 rot="20790000">
            <a:off x="6300360" y="2924280"/>
            <a:ext cx="1225440" cy="68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2720" y="63295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farbig w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2953" r="0" b="6711"/>
          <a:stretch/>
        </p:blipFill>
        <p:spPr>
          <a:xfrm>
            <a:off x="0" y="0"/>
            <a:ext cx="9144000" cy="6194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1225800" cy="684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227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 rot="20790000">
            <a:off x="6300360" y="2924280"/>
            <a:ext cx="1225440" cy="68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2720" y="63295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farbig w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50200" y="288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25440" y="2727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2953" r="0" b="6711"/>
          <a:stretch/>
        </p:blipFill>
        <p:spPr>
          <a:xfrm>
            <a:off x="0" y="0"/>
            <a:ext cx="9144000" cy="6194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1225800" cy="68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227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 rot="20790000">
            <a:off x="6300360" y="2924280"/>
            <a:ext cx="1225440" cy="684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22720" y="63295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farbig w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8160" y="3429000"/>
            <a:ext cx="148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http://piratenpartei.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9800" y="3573360"/>
            <a:ext cx="148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http://piratenpartei.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2953" r="0" b="6711"/>
          <a:stretch/>
        </p:blipFill>
        <p:spPr>
          <a:xfrm>
            <a:off x="0" y="0"/>
            <a:ext cx="9144000" cy="6194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122580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227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 rot="20786400">
            <a:off x="6298920" y="2924280"/>
            <a:ext cx="122544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3440" y="63295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eifarbig schwarz und w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2953" r="0" b="6711"/>
          <a:stretch/>
        </p:blipFill>
        <p:spPr>
          <a:xfrm>
            <a:off x="0" y="0"/>
            <a:ext cx="9144000" cy="6194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122580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227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 rot="20786400">
            <a:off x="6298920" y="2924280"/>
            <a:ext cx="1225440" cy="685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3440" y="63295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eifarbig schwarz und w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50200" y="2889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25440" y="27273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2953" r="0" b="6711"/>
          <a:stretch/>
        </p:blipFill>
        <p:spPr>
          <a:xfrm>
            <a:off x="0" y="0"/>
            <a:ext cx="9144000" cy="6194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122580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227640" y="2565360"/>
            <a:ext cx="1351080" cy="428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 rot="20786400">
            <a:off x="6298920" y="2924280"/>
            <a:ext cx="1225440" cy="685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3440" y="63295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eifarbig schwarz und w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8160" y="3429000"/>
            <a:ext cx="148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http://piratenpartei.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9800" y="3573360"/>
            <a:ext cx="148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http://piratenpartei.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4:34:32Z</dcterms:created>
  <dc:creator>XD</dc:creator>
  <dc:description/>
  <dc:language>en-US</dc:language>
  <cp:lastModifiedBy>XD</cp:lastModifiedBy>
  <dcterms:modified xsi:type="dcterms:W3CDTF">2010-10-19T13:46:00Z</dcterms:modified>
  <cp:revision>5</cp:revision>
  <dc:subject/>
  <dc:title>Slide 1</dc:title>
</cp:coreProperties>
</file>